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A115-D22D-4C9F-AC6B-D82AF20B5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2876-DD99-43B1-B56A-C6015977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20B-8AAD-465E-9A17-0AC249F8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D31-9993-4679-B33D-61E501ED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1C8-4F08-4CF2-89FA-CCF99D4F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836-184B-432F-B140-648B257C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5D36-2D86-47D4-931A-28280A9D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54EF-86A0-41CF-8208-4DF047C6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B5C5-A166-4FD4-B5CC-821A1FA7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5B46-1B2B-471F-9D3A-A4FA2312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2817-6ACC-463A-B8AC-D84CE767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BD5D-1280-4511-9F54-6F61464A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07B-45E7-4092-A7CB-5BED0CE7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BA8-03BE-483C-8DD9-B78BC4CC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E796-7515-42B0-B96A-DF5847D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E244-B6D9-4F6A-BC80-C6C99439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8C6A-F18E-49C7-A661-02212BD0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969-A6D9-47FF-889D-1D919F46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82A2-E4B1-4AD3-BF91-44DBEC0F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D7FA-5972-46EA-B517-DD8DB097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2FD2-30C1-4EB0-8327-87D7DD15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BB80-3F55-4E22-B794-E0F100C6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6166-BD9F-4DA1-8BD6-09982A59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00F1-0ABC-48B4-9415-7218CAAD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22A-29FA-4879-9179-ABE0459B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41A4-3092-4C11-9974-FF9BADBF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43C7-DCEF-47FC-9953-D9B8DE2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03C3-4E34-4290-821B-BB6162D8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DAE9-40D0-4DCE-AC82-617A0B8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AE45-ED6C-4516-B8DB-B35FDF65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C0BC-7268-40AA-9A10-486729E6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746D-9D4E-405A-8187-2485A46F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2181-5BA6-4C77-B1AF-71699D22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4BB28-939F-42CF-A969-3C41CA07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D2E3-8920-494E-A12C-604EDCB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E32-0DF8-4775-8BA9-FA1F7B1F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A348-7B6A-4C17-8387-4276064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A94A-E0F6-4D47-BAF7-4933C8A1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D662-456D-4E58-B4E3-0DAA7E88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6158-9644-4617-983F-4ED6F0E9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9279-1762-47C0-9D73-FCA9706E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4527-3D54-45D3-B605-FFAE17E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B60F-C97C-486D-8623-064133EA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C59E-E334-427F-B2D6-0A56B170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7D8A-7820-407F-92B3-6C7BB4B3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3555A-4BF2-4131-AA74-A92FA043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664-5145-4CB0-8610-C1051EF7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2DF10-EA74-40B4-9D7E-B1510816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D107-3734-4C89-8959-DA7DEB4B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9915-BA38-4786-BF50-35B5EBE4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555F9-83B1-4CC5-A0D0-21E9879A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BE527-FBC9-4EEA-BB7C-6A3B64D6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AB6C-82C6-460A-9EC4-0D4C22D5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EC4C7-2AA8-40BE-A840-00ACE81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267C-781F-4B9D-970B-F5E49871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150FC-D3C6-4339-88B4-7158AE0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C5A6-9ACA-4903-9253-671A49A0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525-849A-4295-A9F9-36170F48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C671-D49B-4961-8B09-AB15967B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02D79-D8CE-40D5-BEAA-0ADEE35D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5C9CE-ADBB-4D3D-9F64-6F540440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471E1-E88B-4469-9922-9DCD8634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18823-3F8A-426B-8E53-6B09D4B5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AB419-73B1-431C-9EA4-924934DB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035F8-9222-4286-8327-073BC4FA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F05F-3E74-467A-89CC-803C7D1B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D1AC-A140-4333-8B8B-4B38FA0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B5A21-B530-4B71-9BEF-D4FB1728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3F8-3514-41A6-A39F-95BA896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3C8C-F1AE-4734-BCDF-96476795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78DF7-F26D-4B46-A293-B2B3FECC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0CD37-0A19-4013-95C6-7024F5D5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64E3-D5AF-4815-9195-52693C53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5A17E-FD7D-401F-8CEA-0CA873A2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8BDBB-E7E9-4388-B4A9-027E8CBE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1E6AB-608D-46CC-ACFC-A0AC5355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BE320-1960-4C9B-A2B2-415FE782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C5201-4EC9-40F8-B009-DFB1DE33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1D3DE-5105-488C-AC44-51E67D58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3CE-4615-433A-81FB-62E73074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76B54-5A3B-4197-B2DC-46B2A04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30936-E237-41B7-8067-8C858E26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7D347-585A-47C9-B363-382C4923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8F936-2EDA-404F-B78C-6B4182D5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CBCA4-81AE-4640-B55B-44653ED9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799-445C-4869-AB5B-1AD3948A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2076-B56E-410E-8983-2E7C08A4F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9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4F28-52D7-41D9-A539-F6788EE97D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6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1290-2ACF-404A-84A5-5944498759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BEB-80B1-40D5-BBDE-1C657A9A559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EEA8-43B0-4832-85B9-1D54EE344D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6387-A645-4746-999B-3DE46C8281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66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F129-43FC-4471-A274-F59808759E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9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l-, Im-, In-, Ir-, Neg-, Non-, Un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428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m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redible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Cred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= belief; trust; faith)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ible-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apable of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rration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l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sensic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llegible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leg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= root meaning to read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PGothi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mortal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morta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- capable of dying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anim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rrever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ep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, with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8" descr="nonsensical.jpg"/>
          <p:cNvPicPr/>
          <p:nvPr/>
        </p:nvPicPr>
        <p:blipFill>
          <a:blip r:embed="rId2"/>
          <a:stretch/>
        </p:blipFill>
        <p:spPr>
          <a:xfrm>
            <a:off x="4800600" y="274320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incredibles.jpg"/>
          <p:cNvPicPr/>
          <p:nvPr/>
        </p:nvPicPr>
        <p:blipFill>
          <a:blip r:embed="rId3"/>
          <a:stretch/>
        </p:blipFill>
        <p:spPr>
          <a:xfrm>
            <a:off x="6934320" y="2362320"/>
            <a:ext cx="1428480" cy="1104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illegible.jpg"/>
          <p:cNvPicPr/>
          <p:nvPr/>
        </p:nvPicPr>
        <p:blipFill>
          <a:blip r:embed="rId4"/>
          <a:stretch/>
        </p:blipFill>
        <p:spPr>
          <a:xfrm>
            <a:off x="5410080" y="4572000"/>
            <a:ext cx="2895840" cy="1905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s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st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vene  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vene-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m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lu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ition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tween, or amo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8" descr="intervene.jpg"/>
          <p:cNvPicPr/>
          <p:nvPr/>
        </p:nvPicPr>
        <p:blipFill>
          <a:blip r:embed="rId2"/>
          <a:stretch/>
        </p:blipFill>
        <p:spPr>
          <a:xfrm>
            <a:off x="3352680" y="342900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intersect.jpg"/>
          <p:cNvPicPr/>
          <p:nvPr/>
        </p:nvPicPr>
        <p:blipFill>
          <a:blip r:embed="rId3"/>
          <a:stretch/>
        </p:blipFill>
        <p:spPr>
          <a:xfrm>
            <a:off x="6400800" y="2895480"/>
            <a:ext cx="19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interview.jpg"/>
          <p:cNvPicPr/>
          <p:nvPr/>
        </p:nvPicPr>
        <p:blipFill>
          <a:blip r:embed="rId4"/>
          <a:stretch/>
        </p:blipFill>
        <p:spPr>
          <a:xfrm>
            <a:off x="7238880" y="0"/>
            <a:ext cx="1714680" cy="1600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internet.jpg"/>
          <p:cNvPicPr/>
          <p:nvPr/>
        </p:nvPicPr>
        <p:blipFill>
          <a:blip r:embed="rId5"/>
          <a:stretch/>
        </p:blipFill>
        <p:spPr>
          <a:xfrm>
            <a:off x="7772400" y="518148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interstate.jpg"/>
          <p:cNvPicPr/>
          <p:nvPr/>
        </p:nvPicPr>
        <p:blipFill>
          <a:blip r:embed="rId6"/>
          <a:stretch/>
        </p:blipFill>
        <p:spPr>
          <a:xfrm>
            <a:off x="4343400" y="5334120"/>
            <a:ext cx="189540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a-, Intro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amu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ast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aven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osp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ove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rodu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ide, or with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Picture 8" descr="introspect.jpg"/>
          <p:cNvPicPr/>
          <p:nvPr/>
        </p:nvPicPr>
        <p:blipFill>
          <a:blip r:embed="rId2"/>
          <a:stretch/>
        </p:blipFill>
        <p:spPr>
          <a:xfrm>
            <a:off x="4267080" y="27432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intravenous.jpg"/>
          <p:cNvPicPr/>
          <p:nvPr/>
        </p:nvPicPr>
        <p:blipFill>
          <a:blip r:embed="rId3"/>
          <a:stretch/>
        </p:blipFill>
        <p:spPr>
          <a:xfrm>
            <a:off x="1676520" y="4876920"/>
            <a:ext cx="1600200" cy="1514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interstate.jpg"/>
          <p:cNvPicPr/>
          <p:nvPr/>
        </p:nvPicPr>
        <p:blipFill>
          <a:blip r:embed="rId4"/>
          <a:stretch/>
        </p:blipFill>
        <p:spPr>
          <a:xfrm>
            <a:off x="6477120" y="3276720"/>
            <a:ext cx="1895400" cy="1295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introduce.jpg"/>
          <p:cNvPicPr/>
          <p:nvPr/>
        </p:nvPicPr>
        <p:blipFill>
          <a:blip r:embed="rId5"/>
          <a:stretch/>
        </p:blipFill>
        <p:spPr>
          <a:xfrm>
            <a:off x="5867280" y="5105520"/>
            <a:ext cx="1981440" cy="1276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introvert.jpg"/>
          <p:cNvPicPr/>
          <p:nvPr/>
        </p:nvPicPr>
        <p:blipFill>
          <a:blip r:embed="rId6"/>
          <a:stretch/>
        </p:blipFill>
        <p:spPr>
          <a:xfrm>
            <a:off x="7010280" y="228600"/>
            <a:ext cx="16765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-je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505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jec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-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ut or out of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jec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pro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=forth or forward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jec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e-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gain or back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throw out or c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9" descr="object.jpg"/>
          <p:cNvPicPr/>
          <p:nvPr/>
        </p:nvPicPr>
        <p:blipFill>
          <a:blip r:embed="rId2"/>
          <a:stretch/>
        </p:blipFill>
        <p:spPr>
          <a:xfrm>
            <a:off x="6248520" y="3048120"/>
            <a:ext cx="1942920" cy="1447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eject.jpg"/>
          <p:cNvPicPr/>
          <p:nvPr/>
        </p:nvPicPr>
        <p:blipFill>
          <a:blip r:embed="rId3"/>
          <a:stretch/>
        </p:blipFill>
        <p:spPr>
          <a:xfrm>
            <a:off x="4191120" y="5029200"/>
            <a:ext cx="1390680" cy="1295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inject.jpg"/>
          <p:cNvPicPr/>
          <p:nvPr/>
        </p:nvPicPr>
        <p:blipFill>
          <a:blip r:embed="rId4"/>
          <a:stretch/>
        </p:blipFill>
        <p:spPr>
          <a:xfrm>
            <a:off x="7391520" y="152280"/>
            <a:ext cx="1438200" cy="1295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recject.jpg"/>
          <p:cNvPicPr/>
          <p:nvPr/>
        </p:nvPicPr>
        <p:blipFill>
          <a:blip r:embed="rId5"/>
          <a:stretch/>
        </p:blipFill>
        <p:spPr>
          <a:xfrm>
            <a:off x="6248520" y="4800600"/>
            <a:ext cx="2066760" cy="144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l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2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gra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gra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= metric unit of weigh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liter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lit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S PGothic"/>
              </a:rPr>
              <a:t>r= a metric measure of volume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meter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eter-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measur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t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owa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57800" y="159984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housand; characterized by a thous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Picture 6" descr="kilogram.jpg"/>
          <p:cNvPicPr/>
          <p:nvPr/>
        </p:nvPicPr>
        <p:blipFill>
          <a:blip r:embed="rId2"/>
          <a:stretch/>
        </p:blipFill>
        <p:spPr>
          <a:xfrm>
            <a:off x="4114800" y="4800600"/>
            <a:ext cx="2076480" cy="1676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kilowatt.jpg"/>
          <p:cNvPicPr/>
          <p:nvPr/>
        </p:nvPicPr>
        <p:blipFill>
          <a:blip r:embed="rId3"/>
          <a:stretch/>
        </p:blipFill>
        <p:spPr>
          <a:xfrm>
            <a:off x="6858000" y="35053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kilometer.jpg"/>
          <p:cNvPicPr/>
          <p:nvPr/>
        </p:nvPicPr>
        <p:blipFill>
          <a:blip r:embed="rId4"/>
          <a:stretch/>
        </p:blipFill>
        <p:spPr>
          <a:xfrm>
            <a:off x="7315200" y="304920"/>
            <a:ext cx="12859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Nvasquez</cp:lastModifiedBy>
  <dcterms:modified xsi:type="dcterms:W3CDTF">2009-10-15T21:32:51Z</dcterms:modified>
  <cp:revision>28</cp:revision>
  <dc:subject/>
  <dc:title>Roots List #1</dc:title>
</cp:coreProperties>
</file>